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media/image5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4646B-D03E-488B-B979-45DFD8813DF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y take action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47B25-5EA3-4BD7-92EB-367AE6C2609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Peacekeeping and secu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UN, sends peacekeepers to regions where armed conflict has recently ceased or paused to enforce the terms of peace agreements and to discourage combatants from resuming hostiliti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ince the UN does not maintain its own military, peacekeeping forces are voluntarily provided by member states of the U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forces, are called the "Blue Helmets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97AA7-A659-472C-875B-C708AE9D647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ernational organis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UN was founded in 1945 after World War II (to replace the League of Nations) - 65 years a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o stop wars between countrie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nd to provide a platform for dialogu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nearly every sovereign state in the world is a me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ernational law, international security, economic development, social progress, human rights, and achievement of world pe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t contains multiple subsidiary organizations to carry out its miss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bout 44,000 people work for the 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A63FE-887B-422B-8431-E3C698AF198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Secretary-General, Ban Ki-moon of South Korea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pokesperson and leader of the 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18AB8-50B1-46AD-88F4-D66BC62BABB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United Nations Environment Programme (UNEP) coordinates United Nations environmental activitie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ssisting developing countries in implementing environmentally sound policies and practi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ounded in June 1972 (39 years ago) and has its headquarters in Nairobi, Keny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UNEP also has six regional offices and various country offi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39FE7-9A34-47BC-8326-6387D937721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A0E68-3090-469E-974D-D389E9B967A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7A43-97CF-4C3E-B21D-C9AD3225F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9EBA-BCBB-4693-8590-582BC87F9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3303-02A6-4865-8866-7BBED6E7D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68A2-7877-411A-B156-E58F305BF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6FC3E-0665-44C1-BF64-9D91C35B4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29320-26F8-4215-B683-A88D41456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DCA4F-20A8-4569-9DE6-6E286537D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F513A-BF42-4329-A550-4E4E5EAC9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E5527-C1C4-4D84-B16E-1D69D1F2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E93E1-09E1-45C7-956D-6FC7269B5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278AC-EF5C-4BC8-8DC5-23CA81C6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7204-66BF-4383-8F4B-3AD86DC68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A8C63-7D39-4CB7-8AAA-18ABFEB2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0C44E-2972-4418-9362-219BA20E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FB37F-705E-494F-8CBD-F4CC2FC80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E1C8D-384A-458B-8934-97E0E0F23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5E34F-F3B0-4967-81AF-9E318486C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37ED-3FF6-424C-8C5B-C4AA65D60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32B4-FB39-4380-8A26-AA072E5D5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7C47-2854-4318-B3C9-E5DF7C39A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34CC-7C87-4BAD-A77F-237BC45EF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47AF-2815-4A7A-A43D-DC0B0EF4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7146-21B8-42C0-BA54-27A86EAE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B3CA-CB74-4302-9D53-64FD0187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8A513-7417-4494-8870-1B36427C65FA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8A428-7186-4DC6-BC6E-62474A37D81B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http://www.businesspundit.com/wp-content/uploads/2009/10/zzmicheytds.jpg"/>
          <p:cNvPicPr/>
          <p:nvPr/>
        </p:nvPicPr>
        <p:blipFill>
          <a:blip r:embed="rId1"/>
          <a:stretch/>
        </p:blipFill>
        <p:spPr>
          <a:xfrm>
            <a:off x="2556000" y="1844640"/>
            <a:ext cx="40957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"/>
          <p:cNvSpPr/>
          <p:nvPr/>
        </p:nvSpPr>
        <p:spPr>
          <a:xfrm>
            <a:off x="539640" y="836640"/>
            <a:ext cx="842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Constantia"/>
              </a:rPr>
              <a:t>Harmful Substances and Hazardous Waste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6" name="Picture 2" descr="http://www.pwindia.in/Libraries/People/toxic_waste.sflb.ashx"/>
          <p:cNvPicPr/>
          <p:nvPr/>
        </p:nvPicPr>
        <p:blipFill>
          <a:blip r:embed="rId1"/>
          <a:stretch/>
        </p:blipFill>
        <p:spPr>
          <a:xfrm>
            <a:off x="1619280" y="2133720"/>
            <a:ext cx="609588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1"/>
          <p:cNvSpPr/>
          <p:nvPr/>
        </p:nvSpPr>
        <p:spPr>
          <a:xfrm>
            <a:off x="36720" y="692280"/>
            <a:ext cx="4892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Constantia"/>
              </a:rPr>
              <a:t>Resource Efficiency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8" name="Picture 14" descr=""/>
          <p:cNvPicPr/>
          <p:nvPr/>
        </p:nvPicPr>
        <p:blipFill>
          <a:blip r:embed="rId1"/>
          <a:srcRect l="20276" t="24934" r="53346" b="44969"/>
          <a:stretch/>
        </p:blipFill>
        <p:spPr>
          <a:xfrm>
            <a:off x="1403280" y="1628640"/>
            <a:ext cx="572292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http://www.nasa.gov/images/content/139207main_ozone_hole_img.gif"/>
          <p:cNvPicPr/>
          <p:nvPr/>
        </p:nvPicPr>
        <p:blipFill>
          <a:blip r:embed="rId1"/>
          <a:stretch/>
        </p:blipFill>
        <p:spPr>
          <a:xfrm>
            <a:off x="2114640" y="971640"/>
            <a:ext cx="491472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http://earthtrends.wri.org/images/ODS%20Consumption%20Chart.jpg"/>
          <p:cNvPicPr/>
          <p:nvPr/>
        </p:nvPicPr>
        <p:blipFill>
          <a:blip r:embed="rId1"/>
          <a:stretch/>
        </p:blipFill>
        <p:spPr>
          <a:xfrm>
            <a:off x="755640" y="620640"/>
            <a:ext cx="766296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6" descr="http://www.unep.fr/ozonaction/images/events/ozoneday/content_2005_ozzy.jpg"/>
          <p:cNvPicPr/>
          <p:nvPr/>
        </p:nvPicPr>
        <p:blipFill>
          <a:blip r:embed="rId1"/>
          <a:stretch/>
        </p:blipFill>
        <p:spPr>
          <a:xfrm>
            <a:off x="3132000" y="981000"/>
            <a:ext cx="3024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http://www.vietnam-un.org/images/peacekeeper.jpg"/>
          <p:cNvPicPr/>
          <p:nvPr/>
        </p:nvPicPr>
        <p:blipFill>
          <a:blip r:embed="rId1"/>
          <a:stretch/>
        </p:blipFill>
        <p:spPr>
          <a:xfrm>
            <a:off x="2857680" y="1641600"/>
            <a:ext cx="3429000" cy="35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File:Flag of the United Nations.svg"/>
          <p:cNvPicPr/>
          <p:nvPr/>
        </p:nvPicPr>
        <p:blipFill>
          <a:blip r:embed="rId1"/>
          <a:stretch/>
        </p:blipFill>
        <p:spPr>
          <a:xfrm>
            <a:off x="755640" y="1268280"/>
            <a:ext cx="762012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http://upload.wikimedia.org/wikipedia/commons/thumb/1/1a/Ban_Ki-moon_headshot.jpg/250px-Ban_Ki-moon_headshot.jpg"/>
          <p:cNvPicPr/>
          <p:nvPr/>
        </p:nvPicPr>
        <p:blipFill>
          <a:blip r:embed="rId1"/>
          <a:stretch/>
        </p:blipFill>
        <p:spPr>
          <a:xfrm>
            <a:off x="3184560" y="1592280"/>
            <a:ext cx="27748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File:UNEP logo.svg"/>
          <p:cNvPicPr/>
          <p:nvPr/>
        </p:nvPicPr>
        <p:blipFill>
          <a:blip r:embed="rId1"/>
          <a:stretch/>
        </p:blipFill>
        <p:spPr>
          <a:xfrm>
            <a:off x="3052800" y="1643040"/>
            <a:ext cx="30384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"/>
          <p:cNvSpPr/>
          <p:nvPr/>
        </p:nvSpPr>
        <p:spPr>
          <a:xfrm>
            <a:off x="611280" y="62064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Constantia"/>
              </a:rPr>
              <a:t>Climate Change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8" name="Picture 2" descr="http://www.marketoracle.co.uk/images/climate_change_carbon_tax.jpg"/>
          <p:cNvPicPr/>
          <p:nvPr/>
        </p:nvPicPr>
        <p:blipFill>
          <a:blip r:embed="rId1"/>
          <a:stretch/>
        </p:blipFill>
        <p:spPr>
          <a:xfrm>
            <a:off x="2484360" y="1557360"/>
            <a:ext cx="4081680" cy="40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"/>
          <p:cNvSpPr/>
          <p:nvPr/>
        </p:nvSpPr>
        <p:spPr>
          <a:xfrm>
            <a:off x="468360" y="765000"/>
            <a:ext cx="719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Constantia"/>
              </a:rPr>
              <a:t>Disasters and Conflicts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0" name="Picture 1" descr=""/>
          <p:cNvPicPr/>
          <p:nvPr/>
        </p:nvPicPr>
        <p:blipFill>
          <a:blip r:embed="rId1"/>
          <a:srcRect l="19488" t="29834" r="51770" b="40066"/>
          <a:stretch/>
        </p:blipFill>
        <p:spPr>
          <a:xfrm>
            <a:off x="1506600" y="1773360"/>
            <a:ext cx="623412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"/>
          <p:cNvSpPr/>
          <p:nvPr/>
        </p:nvSpPr>
        <p:spPr>
          <a:xfrm>
            <a:off x="395280" y="76500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Constantia"/>
              </a:rPr>
              <a:t>Ecosystem Management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2" name="Picture 2" descr="http://adoxas.com/custom/rev.jpg"/>
          <p:cNvPicPr/>
          <p:nvPr/>
        </p:nvPicPr>
        <p:blipFill>
          <a:blip r:embed="rId1"/>
          <a:stretch/>
        </p:blipFill>
        <p:spPr>
          <a:xfrm>
            <a:off x="2484360" y="1557360"/>
            <a:ext cx="491328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"/>
          <p:cNvSpPr/>
          <p:nvPr/>
        </p:nvSpPr>
        <p:spPr>
          <a:xfrm>
            <a:off x="395280" y="907920"/>
            <a:ext cx="748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Constantia"/>
              </a:rPr>
              <a:t>Environmental Governance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4" name="Picture 2" descr="http://www.iisd.ca/ozone/mop11/pix/5plen-balcony.jpg"/>
          <p:cNvPicPr/>
          <p:nvPr/>
        </p:nvPicPr>
        <p:blipFill>
          <a:blip r:embed="rId1"/>
          <a:stretch/>
        </p:blipFill>
        <p:spPr>
          <a:xfrm>
            <a:off x="1763640" y="2349360"/>
            <a:ext cx="554508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3T10:15:41Z</dcterms:created>
  <dc:creator>E</dc:creator>
  <dc:description/>
  <dc:language>en-US</dc:language>
  <cp:lastModifiedBy>mhelene</cp:lastModifiedBy>
  <dcterms:modified xsi:type="dcterms:W3CDTF">2011-01-03T13:42:15Z</dcterms:modified>
  <cp:revision>20</cp:revision>
  <dc:subject/>
  <dc:title>Slide 1</dc:title>
</cp:coreProperties>
</file>